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982-2FA5-45DD-B033-466B9AF1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0C9-8F76-43D4-999E-7CB279E6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A0F-F409-4EB3-978E-2095EC7D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639-D230-415D-8036-785ECFA2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01F-4BDD-4B1E-9A16-114B5E14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61F-8B30-4913-A957-93F717FC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4A4-17D1-44E8-9457-915844A2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7D0-26C0-4DEA-8B7C-3696C366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E58-47D8-42E1-84D4-9F7D5EBF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236-04E5-41BC-ABF7-F91161D1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D3E-F3C5-4D8E-87BB-AD95385A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DBD-AA6A-4FDE-A291-C45E7E97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A928-44E9-4EEB-BC34-3E05FF39F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Callout 3"/>
          <p:cNvSpPr/>
          <p:nvPr/>
        </p:nvSpPr>
        <p:spPr>
          <a:xfrm rot="20554200">
            <a:off x="1999800" y="1071360"/>
            <a:ext cx="3025800" cy="2912760"/>
          </a:xfrm>
          <a:prstGeom prst="wedgeEllipseCallout">
            <a:avLst>
              <a:gd name="adj1" fmla="val -17069"/>
              <a:gd name="adj2" fmla="val 54324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h the Place You Will G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y Dr. Seu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5"/>
          <p:cNvSpPr/>
          <p:nvPr/>
        </p:nvSpPr>
        <p:spPr>
          <a:xfrm>
            <a:off x="617400" y="7924680"/>
            <a:ext cx="770040" cy="53352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8"/>
          <p:cNvSpPr/>
          <p:nvPr/>
        </p:nvSpPr>
        <p:spPr>
          <a:xfrm flipH="1">
            <a:off x="4327200" y="3191040"/>
            <a:ext cx="514440" cy="3143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2070000" y="2981160"/>
            <a:ext cx="628920" cy="33530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6760" y="-26280"/>
            <a:ext cx="6172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14:09:34Z</dcterms:created>
  <dc:creator>dell</dc:creator>
  <dc:description/>
  <dc:language>en-US</dc:language>
  <cp:lastModifiedBy>dell</cp:lastModifiedBy>
  <dcterms:modified xsi:type="dcterms:W3CDTF">2015-03-02T17:31:38Z</dcterms:modified>
  <cp:revision>6</cp:revision>
  <dc:subject/>
  <dc:title>PowerPoint Presentation</dc:title>
</cp:coreProperties>
</file>